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9A8-E957-42B6-864C-A7698192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D73-28BF-4FDD-B559-2BBA1174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C88-49B4-4EEA-BF1C-28F980B2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0E9-97BC-4FB2-86FC-09AB4935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6AA-020C-4084-8E93-3F4EE9A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E1CA-F65E-4400-8395-A90DC6B1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58B-EC2B-43FF-A43B-C8DA53A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2F3-ABE8-44B8-8842-1D64807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863-CF27-4BCB-B696-0C15C6B3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B20-D4FC-44CF-A85F-16D17201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9F6-A405-4E7F-B33A-944796C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471-46C8-4528-B1F6-50775841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79A4-6BCC-4373-B658-CD352632C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tapdnc0a.wav" TargetMode="External"/><Relationship Id="rId3" Type="http://schemas.microsoft.com/office/2007/relationships/media" Target="file:///tmp/home/.config/libreoffice/4/user/gallery/tapdnc0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722.wav" TargetMode="External"/><Relationship Id="rId2" Type="http://schemas.microsoft.com/office/2007/relationships/media" Target="file:///tmp/home/.config/libreoffice/4/user/gallery/j0074722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e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ius Spe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den Cab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Sheph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icheal Chamb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541520"/>
            <a:ext cx="4114800" cy="41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49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Job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rotect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Enforce th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ublic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Invest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80060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638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Sa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2,922-$30,0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91120" y="2549520"/>
            <a:ext cx="4724280" cy="377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0800000">
            <a:off x="2590560" y="4419360"/>
            <a:ext cx="1523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31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High School Dipl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Police Acade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Certif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50532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10800000">
            <a:off x="837720" y="525744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600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바탕"/>
              </a:rPr>
              <a:t>Interesting Fa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ust be abl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llow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Use common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ontrol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ake good decisions+++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276720" cy="464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0:58:44Z</dcterms:created>
  <dc:creator>Wireless Project</dc:creator>
  <dc:description/>
  <dc:language>en-US</dc:language>
  <cp:lastModifiedBy>LWHITE</cp:lastModifiedBy>
  <dcterms:modified xsi:type="dcterms:W3CDTF">2011-04-19T13:28:23Z</dcterms:modified>
  <cp:revision>3</cp:revision>
  <dc:subject/>
  <dc:title>Policeman</dc:title>
</cp:coreProperties>
</file>